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954838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1BC0-2D63-447A-BBF5-7F963D3B6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5CB4-9187-4F30-B815-AB613DB2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F303-7C1E-41D5-B713-1277FDDF4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4FA6-5ADD-41BA-9EF0-71F8EFC30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31B6-0A7E-4180-8D8D-5BFED3059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E2CE-6EBA-4C8D-970E-822A72DF2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934C-EE3D-46B4-9E5D-A9147FBAB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167F-8D4B-4363-A4CA-40CF03FD9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4E5C-6B4B-4F33-B7C9-30D8ACD80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2406-E822-446C-8F37-F0599872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4CDE-61FC-4A25-AA94-7852766B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3967-BDDC-4608-8C9D-3C540555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D8AD5-80B5-4CBD-AFB9-E0B19EB80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000" spc="-1" strike="noStrike">
                <a:solidFill>
                  <a:srgbClr val="000000"/>
                </a:solidFill>
                <a:latin typeface="Century Schoolbook"/>
              </a:rPr>
              <a:t>Hull Equipment Identification</a:t>
            </a:r>
            <a:br>
              <a:rPr sz="4000"/>
            </a:br>
            <a:r>
              <a:rPr b="0" lang="en" sz="40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998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Comic Sans MS"/>
              </a:rPr>
              <a:t>Which part of the hull is the arrow pointing 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24999" t="21855" r="10315" b="22269"/>
          <a:stretch/>
        </p:blipFill>
        <p:spPr>
          <a:xfrm>
            <a:off x="1371600" y="2819520"/>
            <a:ext cx="6934320" cy="33447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019920" y="2666880"/>
            <a:ext cx="2590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895480" y="5638680"/>
            <a:ext cx="762120" cy="609840"/>
          </a:xfrm>
          <a:prstGeom prst="line">
            <a:avLst/>
          </a:prstGeom>
          <a:ln w="63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304920"/>
            <a:ext cx="8534160" cy="62481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dgeons and pint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l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000" spc="-1" strike="noStrike">
                <a:solidFill>
                  <a:srgbClr val="000000"/>
                </a:solidFill>
                <a:latin typeface="Century Schoolbook"/>
              </a:rPr>
              <a:t>Hull Equipment Identification</a:t>
            </a:r>
            <a:br>
              <a:rPr sz="4000"/>
            </a:br>
            <a:r>
              <a:rPr b="0" lang="en" sz="40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371600" y="1600200"/>
            <a:ext cx="6400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Comic Sans MS"/>
              </a:rPr>
              <a:t>Which part of the hull is the arrow pointing 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24999" t="21855" r="10315" b="22269"/>
          <a:stretch/>
        </p:blipFill>
        <p:spPr>
          <a:xfrm>
            <a:off x="1371600" y="2819520"/>
            <a:ext cx="6934320" cy="33447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019920" y="2666880"/>
            <a:ext cx="2590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2514600" y="3885840"/>
            <a:ext cx="762120" cy="609480"/>
          </a:xfrm>
          <a:prstGeom prst="line">
            <a:avLst/>
          </a:prstGeom>
          <a:ln w="63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304920"/>
            <a:ext cx="8534160" cy="62481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000" spc="-1" strike="noStrike">
                <a:solidFill>
                  <a:srgbClr val="000000"/>
                </a:solidFill>
                <a:latin typeface="Century Schoolbook"/>
              </a:rPr>
              <a:t>Hull Equipment Identification</a:t>
            </a:r>
            <a:br>
              <a:rPr sz="4000"/>
            </a:br>
            <a:r>
              <a:rPr b="0" lang="en" sz="40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1600" y="1600200"/>
            <a:ext cx="6400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Comic Sans MS"/>
              </a:rPr>
              <a:t>Which part of the hull is the arrow pointing 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24999" t="21855" r="10315" b="22269"/>
          <a:stretch/>
        </p:blipFill>
        <p:spPr>
          <a:xfrm>
            <a:off x="1371600" y="2819520"/>
            <a:ext cx="6934320" cy="33447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019920" y="2666880"/>
            <a:ext cx="2590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81280" y="4343040"/>
            <a:ext cx="762120" cy="609480"/>
          </a:xfrm>
          <a:prstGeom prst="line">
            <a:avLst/>
          </a:prstGeom>
          <a:ln w="63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304920"/>
            <a:ext cx="8534160" cy="62481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114800" y="4647960"/>
            <a:ext cx="762120" cy="609480"/>
          </a:xfrm>
          <a:prstGeom prst="line">
            <a:avLst/>
          </a:prstGeom>
          <a:ln w="63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0948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000" spc="-1" strike="noStrike">
                <a:solidFill>
                  <a:srgbClr val="000000"/>
                </a:solidFill>
                <a:latin typeface="Century Schoolbook"/>
              </a:rPr>
              <a:t>Hull Equipment Identification</a:t>
            </a:r>
            <a:br>
              <a:rPr sz="4000"/>
            </a:br>
            <a:r>
              <a:rPr b="0" lang="en" sz="40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1600200"/>
            <a:ext cx="6400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Comic Sans MS"/>
              </a:rPr>
              <a:t>Which part of the hull is the arrow pointing 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24999" t="21855" r="10315" b="22269"/>
          <a:stretch/>
        </p:blipFill>
        <p:spPr>
          <a:xfrm>
            <a:off x="1371600" y="2819520"/>
            <a:ext cx="6934320" cy="33447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019920" y="2666880"/>
            <a:ext cx="2590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895480" y="4343040"/>
            <a:ext cx="762120" cy="609480"/>
          </a:xfrm>
          <a:prstGeom prst="line">
            <a:avLst/>
          </a:prstGeom>
          <a:ln w="63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304920"/>
            <a:ext cx="8534160" cy="62481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0948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000" spc="-1" strike="noStrike">
                <a:solidFill>
                  <a:srgbClr val="000000"/>
                </a:solidFill>
                <a:latin typeface="Century Schoolbook"/>
              </a:rPr>
              <a:t>Hull Equipment Identification</a:t>
            </a:r>
            <a:br>
              <a:rPr sz="4000"/>
            </a:br>
            <a:r>
              <a:rPr b="0" lang="en" sz="40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71600" y="1600200"/>
            <a:ext cx="6400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Comic Sans MS"/>
              </a:rPr>
              <a:t>Which part of the hull is the arrow pointing 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24999" t="21855" r="10315" b="22269"/>
          <a:stretch/>
        </p:blipFill>
        <p:spPr>
          <a:xfrm>
            <a:off x="1371600" y="2819520"/>
            <a:ext cx="6934320" cy="3344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019920" y="2666880"/>
            <a:ext cx="2590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124080" y="4190760"/>
            <a:ext cx="838440" cy="609480"/>
          </a:xfrm>
          <a:prstGeom prst="line">
            <a:avLst/>
          </a:prstGeom>
          <a:ln w="63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304920"/>
            <a:ext cx="8534160" cy="62481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0948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000" spc="-1" strike="noStrike">
                <a:solidFill>
                  <a:srgbClr val="000000"/>
                </a:solidFill>
                <a:latin typeface="Century Schoolbook"/>
              </a:rPr>
              <a:t>Hull Equipment Identification</a:t>
            </a:r>
            <a:br>
              <a:rPr sz="4000"/>
            </a:br>
            <a:r>
              <a:rPr b="0" lang="en" sz="40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1600200"/>
            <a:ext cx="6400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Comic Sans MS"/>
              </a:rPr>
              <a:t>Which part of the hull is the arrow pointing 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24999" t="21855" r="10315" b="22269"/>
          <a:stretch/>
        </p:blipFill>
        <p:spPr>
          <a:xfrm>
            <a:off x="1371600" y="2819520"/>
            <a:ext cx="6934320" cy="33447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019920" y="2666880"/>
            <a:ext cx="2590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600200" y="4114440"/>
            <a:ext cx="762120" cy="609480"/>
          </a:xfrm>
          <a:prstGeom prst="line">
            <a:avLst/>
          </a:prstGeom>
          <a:ln w="63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304920"/>
            <a:ext cx="8534160" cy="62481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0948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000" spc="-1" strike="noStrike">
                <a:solidFill>
                  <a:srgbClr val="000000"/>
                </a:solidFill>
                <a:latin typeface="Century Schoolbook"/>
              </a:rPr>
              <a:t>Hull Equipment Identification</a:t>
            </a:r>
            <a:br>
              <a:rPr sz="4000"/>
            </a:br>
            <a:r>
              <a:rPr b="0" lang="en" sz="40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71600" y="1600200"/>
            <a:ext cx="6400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Comic Sans MS"/>
              </a:rPr>
              <a:t>Which part of the hull is the arrow pointing 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24999" t="21855" r="10315" b="22269"/>
          <a:stretch/>
        </p:blipFill>
        <p:spPr>
          <a:xfrm>
            <a:off x="1371600" y="2819520"/>
            <a:ext cx="6934320" cy="33447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019920" y="2666880"/>
            <a:ext cx="2590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057400" y="3962160"/>
            <a:ext cx="762120" cy="609480"/>
          </a:xfrm>
          <a:prstGeom prst="line">
            <a:avLst/>
          </a:prstGeom>
          <a:ln w="63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304920"/>
            <a:ext cx="8534160" cy="62481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sheet blo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0948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000" spc="-1" strike="noStrike">
                <a:solidFill>
                  <a:srgbClr val="000000"/>
                </a:solidFill>
                <a:latin typeface="Century Schoolbook"/>
              </a:rPr>
              <a:t>Hull Equipment Identification</a:t>
            </a:r>
            <a:br>
              <a:rPr sz="4000"/>
            </a:br>
            <a:r>
              <a:rPr b="0" lang="en" sz="40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1600200"/>
            <a:ext cx="6400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Comic Sans MS"/>
              </a:rPr>
              <a:t>Which part of the hull is the arrow pointing 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24999" t="21855" r="10315" b="22269"/>
          <a:stretch/>
        </p:blipFill>
        <p:spPr>
          <a:xfrm>
            <a:off x="1371600" y="2819520"/>
            <a:ext cx="6934320" cy="3344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019920" y="2666880"/>
            <a:ext cx="2590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514600" y="4952880"/>
            <a:ext cx="762120" cy="609840"/>
          </a:xfrm>
          <a:prstGeom prst="line">
            <a:avLst/>
          </a:prstGeom>
          <a:ln w="63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304920"/>
            <a:ext cx="8534160" cy="62481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oyancy t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eboard restra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eboard c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t st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nwale (gunne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0948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000" spc="-1" strike="noStrike">
                <a:solidFill>
                  <a:srgbClr val="000000"/>
                </a:solidFill>
                <a:latin typeface="Century Schoolbook"/>
              </a:rPr>
              <a:t>Hull Equipment Identification</a:t>
            </a:r>
            <a:br>
              <a:rPr sz="4000"/>
            </a:br>
            <a:r>
              <a:rPr b="0" lang="en" sz="40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371600" y="1600200"/>
            <a:ext cx="6400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Comic Sans MS"/>
              </a:rPr>
              <a:t>Which part of the hull is the arrow pointing 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rcRect l="24999" t="21855" r="10315" b="22269"/>
          <a:stretch/>
        </p:blipFill>
        <p:spPr>
          <a:xfrm>
            <a:off x="1371600" y="2819520"/>
            <a:ext cx="6934320" cy="33447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019920" y="2666880"/>
            <a:ext cx="2590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1905120" y="3733560"/>
            <a:ext cx="761760" cy="609480"/>
          </a:xfrm>
          <a:prstGeom prst="line">
            <a:avLst/>
          </a:prstGeom>
          <a:ln w="63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304920"/>
            <a:ext cx="8534160" cy="62481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0948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000" spc="-1" strike="noStrike">
                <a:solidFill>
                  <a:srgbClr val="000000"/>
                </a:solidFill>
                <a:latin typeface="Century Schoolbook"/>
              </a:rPr>
              <a:t>Hull Equipment Identification</a:t>
            </a:r>
            <a:br>
              <a:rPr sz="4000"/>
            </a:br>
            <a:r>
              <a:rPr b="0" lang="en" sz="40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71600" y="1600200"/>
            <a:ext cx="6400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Comic Sans MS"/>
              </a:rPr>
              <a:t>Which part of the hull is the arrow pointing 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rcRect l="24999" t="21855" r="10315" b="22269"/>
          <a:stretch/>
        </p:blipFill>
        <p:spPr>
          <a:xfrm>
            <a:off x="1371600" y="2819520"/>
            <a:ext cx="6934320" cy="3344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019920" y="2666880"/>
            <a:ext cx="2590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905120" y="3276360"/>
            <a:ext cx="761760" cy="609480"/>
          </a:xfrm>
          <a:prstGeom prst="line">
            <a:avLst/>
          </a:prstGeom>
          <a:ln w="63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4920" y="304920"/>
            <a:ext cx="8534160" cy="62481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0948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000" spc="-1" strike="noStrike">
                <a:solidFill>
                  <a:srgbClr val="000000"/>
                </a:solidFill>
                <a:latin typeface="Century Schoolbook"/>
              </a:rPr>
              <a:t>Hull Equipment Identification</a:t>
            </a:r>
            <a:br>
              <a:rPr sz="4000"/>
            </a:br>
            <a:r>
              <a:rPr b="0" lang="en" sz="40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371600" y="1600200"/>
            <a:ext cx="6400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Comic Sans MS"/>
              </a:rPr>
              <a:t>Which part of the hull is the arrow pointing 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24999" t="21855" r="10315" b="22269"/>
          <a:stretch/>
        </p:blipFill>
        <p:spPr>
          <a:xfrm>
            <a:off x="1371600" y="2819520"/>
            <a:ext cx="6934320" cy="33447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019920" y="2666880"/>
            <a:ext cx="2590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523880" y="3581280"/>
            <a:ext cx="762120" cy="609840"/>
          </a:xfrm>
          <a:prstGeom prst="line">
            <a:avLst/>
          </a:prstGeom>
          <a:ln w="63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304920"/>
            <a:ext cx="8534160" cy="62481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0948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000" spc="-1" strike="noStrike">
                <a:solidFill>
                  <a:srgbClr val="000000"/>
                </a:solidFill>
                <a:latin typeface="Century Schoolbook"/>
              </a:rPr>
              <a:t>Hull Equipment Identification</a:t>
            </a:r>
            <a:br>
              <a:rPr sz="4000"/>
            </a:br>
            <a:r>
              <a:rPr b="0" lang="en" sz="40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1600200"/>
            <a:ext cx="6400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Comic Sans MS"/>
              </a:rPr>
              <a:t>Which part of the hull is the arrow pointing 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rcRect l="24999" t="21855" r="10315" b="22269"/>
          <a:stretch/>
        </p:blipFill>
        <p:spPr>
          <a:xfrm>
            <a:off x="1371600" y="2819520"/>
            <a:ext cx="6934320" cy="33447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019920" y="2666880"/>
            <a:ext cx="2590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838080" y="3504960"/>
            <a:ext cx="762120" cy="609480"/>
          </a:xfrm>
          <a:prstGeom prst="line">
            <a:avLst/>
          </a:prstGeom>
          <a:ln w="63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304920"/>
            <a:ext cx="8534160" cy="62481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0948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000" spc="-1" strike="noStrike">
                <a:solidFill>
                  <a:srgbClr val="000000"/>
                </a:solidFill>
                <a:latin typeface="Century Schoolbook"/>
              </a:rPr>
              <a:t>Hull Equipment Identification</a:t>
            </a:r>
            <a:br>
              <a:rPr sz="4000"/>
            </a:br>
            <a:r>
              <a:rPr b="0" lang="en" sz="40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371600" y="1600200"/>
            <a:ext cx="6400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Comic Sans MS"/>
              </a:rPr>
              <a:t>Which part of the hull is the arrow pointing 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rcRect l="24999" t="21855" r="10315" b="22269"/>
          <a:stretch/>
        </p:blipFill>
        <p:spPr>
          <a:xfrm>
            <a:off x="1371600" y="2819520"/>
            <a:ext cx="6934320" cy="3344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019920" y="2666880"/>
            <a:ext cx="2590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248520" y="5181480"/>
            <a:ext cx="761760" cy="609840"/>
          </a:xfrm>
          <a:prstGeom prst="line">
            <a:avLst/>
          </a:prstGeom>
          <a:ln w="63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304920"/>
            <a:ext cx="8534160" cy="62481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948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000" spc="-1" strike="noStrike">
                <a:solidFill>
                  <a:srgbClr val="000000"/>
                </a:solidFill>
                <a:latin typeface="Century Schoolbook"/>
              </a:rPr>
              <a:t>Hull Equipment Identification</a:t>
            </a:r>
            <a:br>
              <a:rPr sz="4000"/>
            </a:br>
            <a:r>
              <a:rPr b="0" lang="en" sz="40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371600" y="1600200"/>
            <a:ext cx="6400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Comic Sans MS"/>
              </a:rPr>
              <a:t>Which part of the hull is the arrow pointing 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24999" t="21855" r="10315" b="22269"/>
          <a:stretch/>
        </p:blipFill>
        <p:spPr>
          <a:xfrm>
            <a:off x="1295280" y="2743200"/>
            <a:ext cx="6934320" cy="3344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19920" y="2666880"/>
            <a:ext cx="2590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6248520" y="5333760"/>
            <a:ext cx="761760" cy="609480"/>
          </a:xfrm>
          <a:prstGeom prst="line">
            <a:avLst/>
          </a:prstGeom>
          <a:ln w="63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304920"/>
            <a:ext cx="8534160" cy="62481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000" spc="-1" strike="noStrike">
                <a:solidFill>
                  <a:srgbClr val="000000"/>
                </a:solidFill>
                <a:latin typeface="Century Schoolbook"/>
              </a:rPr>
              <a:t>Hull Equipment Identification</a:t>
            </a:r>
            <a:br>
              <a:rPr sz="4000"/>
            </a:br>
            <a:r>
              <a:rPr b="0" lang="en" sz="40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47920" y="1600200"/>
            <a:ext cx="6400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Comic Sans MS"/>
              </a:rPr>
              <a:t>Which part of the hull is the arrow pointing 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24999" t="21855" r="10315" b="22269"/>
          <a:stretch/>
        </p:blipFill>
        <p:spPr>
          <a:xfrm>
            <a:off x="1447920" y="2819520"/>
            <a:ext cx="6933960" cy="33447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095880" y="2666880"/>
            <a:ext cx="2590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4114800" y="5028840"/>
            <a:ext cx="762120" cy="609480"/>
          </a:xfrm>
          <a:prstGeom prst="line">
            <a:avLst/>
          </a:prstGeom>
          <a:ln w="63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304920"/>
            <a:ext cx="8534520" cy="62481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t restra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i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dder restra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0948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000" spc="-1" strike="noStrike">
                <a:solidFill>
                  <a:srgbClr val="000000"/>
                </a:solidFill>
                <a:latin typeface="Century Schoolbook"/>
              </a:rPr>
              <a:t>Hull Equipment Identification</a:t>
            </a:r>
            <a:br>
              <a:rPr sz="4000"/>
            </a:br>
            <a:r>
              <a:rPr b="0" lang="en" sz="40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71600" y="1600200"/>
            <a:ext cx="6400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Comic Sans MS"/>
              </a:rPr>
              <a:t>Which part of the hull is the arrow pointing 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24999" t="21855" r="10315" b="22269"/>
          <a:stretch/>
        </p:blipFill>
        <p:spPr>
          <a:xfrm>
            <a:off x="1371600" y="2819520"/>
            <a:ext cx="6934320" cy="33447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019920" y="2666880"/>
            <a:ext cx="2590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6705720" y="5562360"/>
            <a:ext cx="761760" cy="609480"/>
          </a:xfrm>
          <a:prstGeom prst="line">
            <a:avLst/>
          </a:prstGeom>
          <a:ln w="63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304920"/>
            <a:ext cx="8534160" cy="62481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0948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000" spc="-1" strike="noStrike">
                <a:solidFill>
                  <a:srgbClr val="000000"/>
                </a:solidFill>
                <a:latin typeface="Century Schoolbook"/>
              </a:rPr>
              <a:t>Hull Equipment Identification</a:t>
            </a:r>
            <a:br>
              <a:rPr sz="4000"/>
            </a:br>
            <a:r>
              <a:rPr b="0" lang="en" sz="40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1600200"/>
            <a:ext cx="6400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Comic Sans MS"/>
              </a:rPr>
              <a:t>Which part of the hull is the arrow pointing 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24999" t="21855" r="10315" b="22269"/>
          <a:stretch/>
        </p:blipFill>
        <p:spPr>
          <a:xfrm>
            <a:off x="1371600" y="2819520"/>
            <a:ext cx="6934320" cy="33447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019920" y="2666880"/>
            <a:ext cx="2590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7086600" y="4876560"/>
            <a:ext cx="762120" cy="609480"/>
          </a:xfrm>
          <a:prstGeom prst="line">
            <a:avLst/>
          </a:prstGeom>
          <a:ln w="63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304920"/>
            <a:ext cx="8534160" cy="62481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0948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000" spc="-1" strike="noStrike">
                <a:solidFill>
                  <a:srgbClr val="000000"/>
                </a:solidFill>
                <a:latin typeface="Century Schoolbook"/>
              </a:rPr>
              <a:t>Hull Equipment Identification</a:t>
            </a:r>
            <a:br>
              <a:rPr sz="4000"/>
            </a:br>
            <a:r>
              <a:rPr b="0" lang="en" sz="40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371600" y="1600200"/>
            <a:ext cx="6400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Comic Sans MS"/>
              </a:rPr>
              <a:t>Which part of the hull is the arrow pointing 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24999" t="21855" r="10315" b="22269"/>
          <a:stretch/>
        </p:blipFill>
        <p:spPr>
          <a:xfrm>
            <a:off x="1371600" y="2819520"/>
            <a:ext cx="6934320" cy="33447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019920" y="2666880"/>
            <a:ext cx="2590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5562720" y="4647960"/>
            <a:ext cx="761760" cy="609480"/>
          </a:xfrm>
          <a:prstGeom prst="line">
            <a:avLst/>
          </a:prstGeom>
          <a:ln w="63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304920"/>
            <a:ext cx="8534160" cy="62481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ebo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d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7T02:31:08Z</dcterms:created>
  <dc:creator>clay</dc:creator>
  <dc:description/>
  <dc:language>en-US</dc:language>
  <cp:lastModifiedBy>clay</cp:lastModifiedBy>
  <dcterms:modified xsi:type="dcterms:W3CDTF">2012-01-27T04:29:29Z</dcterms:modified>
  <cp:revision>2</cp:revision>
  <dc:subject/>
  <dc:title>Hull Equipment Identification  </dc:title>
</cp:coreProperties>
</file>